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14D-0EE7-4236-8DCE-A4554667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D4B-BCC4-48E0-B117-D2CFF51F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171-65F9-4A01-BC89-748E355B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9EA-EB2C-4085-966C-5045BE2C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E7D-05F6-4327-A550-00C93EDC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31A-9F93-4F7D-9FAC-EF764752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976-B238-4640-9669-5AA32A34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6CE-E20C-47B9-83AE-911AFC84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BEC-017B-40DA-9987-9F8D9C0F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EAA5-F749-47EC-8331-C28CC7D4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2D5-B59A-4B94-AE44-35ED0A81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078D-56EA-445E-BC98-8C9AB104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D623-A93C-40A6-883D-144AAD7C7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6/66/Weisshandgibbon_tierpark_berlin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upload.wikimedia.org/wikipedia/commons/1/18/MattiParkkonen_chimpanze1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upload.wikimedia.org/wikipedia/commons/6/64/Cebus_albifrons_edit.jpg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0/DirkvdM_tamandua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pload.wikimedia.org/wikipedia/commons/0/0d/Laubfrosch_cropped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upload.wikimedia.org/wikipedia/en/f/fa/DSC_1939.jp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upload.wikimedia.org/wikipedia/commons/4/44/Keel-billed_Toucan-27527.jp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b/BambooKyoto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4840" y="380880"/>
            <a:ext cx="3224160" cy="3733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File:Weisshandgibbon tierpark berl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30492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File:MattiParkkonen chimpanze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320" y="4800600"/>
            <a:ext cx="3298680" cy="4038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File:Cebus albifrons edit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05320" y="47242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File:DirkvdM tamandu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360" y="76320"/>
            <a:ext cx="2711520" cy="434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File:Laubfrosch croppe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228600"/>
            <a:ext cx="3141720" cy="4191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DSC 193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2080" y="4648320"/>
            <a:ext cx="2938320" cy="441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ile:Keel-billed Toucan-2752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51814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File:BambooKyot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320"/>
            <a:ext cx="2939760" cy="441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ile:Sa-fern.jpg"/>
          <p:cNvPicPr/>
          <p:nvPr/>
        </p:nvPicPr>
        <p:blipFill>
          <a:blip r:embed="rId3"/>
          <a:stretch/>
        </p:blipFill>
        <p:spPr>
          <a:xfrm>
            <a:off x="3733920" y="152280"/>
            <a:ext cx="2842920" cy="4267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ile:Zoo Dortmund Faultier.jpg"/>
          <p:cNvPicPr/>
          <p:nvPr/>
        </p:nvPicPr>
        <p:blipFill>
          <a:blip r:embed="rId4"/>
          <a:stretch/>
        </p:blipFill>
        <p:spPr>
          <a:xfrm>
            <a:off x="3524400" y="4648320"/>
            <a:ext cx="3257280" cy="4343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52520" y="4724280"/>
            <a:ext cx="2671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File:Giant Panda 2004-03-2.jpg"/>
          <p:cNvPicPr/>
          <p:nvPr/>
        </p:nvPicPr>
        <p:blipFill>
          <a:blip r:embed="rId1"/>
          <a:stretch/>
        </p:blipFill>
        <p:spPr>
          <a:xfrm>
            <a:off x="361800" y="152280"/>
            <a:ext cx="2838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22790</cp:lastModifiedBy>
  <dcterms:modified xsi:type="dcterms:W3CDTF">2008-12-19T22:34:19Z</dcterms:modified>
  <cp:revision>8</cp:revision>
  <dc:subject/>
  <dc:title>Slide 1</dc:title>
</cp:coreProperties>
</file>